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BB8-EF2C-4623-A4D2-007AE58E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767-17FB-4C91-8983-2044620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F78-59EE-4FD8-BA41-433415FA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8E5-351E-447B-B048-E9F361D7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5A9-C9C7-4CA9-A230-484200C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4DE-8A1E-42A7-8D14-1613F1D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2F1-1834-4D9C-B01A-4F737EDF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4F3-74AC-463E-A727-B45D17F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EA7-6C75-4ACF-B328-1EE6D0BB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111-3E45-4F50-B36E-FB8F2A7E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336-13B5-4FFE-A406-44C7C3C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C92-F7B0-416C-8AA9-5B2CF2F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6BC8-E816-4FD1-A0DC-EF8217547F29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0"/>
            <a:ext cx="693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000000"/>
                </a:solidFill>
                <a:uFillTx/>
                <a:latin typeface="Times New Roman"/>
                <a:cs typeface="Diwany6 Normal"/>
              </a:rPr>
              <a:t>نشيد المناولة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لوحي يا غصون الز يت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ّي يا قدس التذك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ير 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ردّي ك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اس زغ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صللوا للفجر الب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عوب الأرض تهن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شعال السلم ال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لّيكي بإلف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ّي إنت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قدس بلادي هوشعنا الربّ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 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سوع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مّ الاطفال غنيّة صوت الشادي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إسمك عاطول الأجيال ع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هلّلْ وتنادي هوشعنا الربّ الفاد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بيت لح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يل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أطفال انقطفوا شه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اليوم شهدوا بأعي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وا بالقدس زي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4:43Z</dcterms:created>
  <dc:creator>Charbel Azar</dc:creator>
  <dc:description/>
  <dc:language>en-US</dc:language>
  <cp:lastModifiedBy>Charbel Azar</cp:lastModifiedBy>
  <dcterms:modified xsi:type="dcterms:W3CDTF">2003-03-14T21:26:50Z</dcterms:modified>
  <cp:revision>4</cp:revision>
  <dc:subject/>
  <dc:title>Slide 1</dc:title>
</cp:coreProperties>
</file>